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1744-DCAC-41F3-B82E-C0EC314D736D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8C88-C527-4080-B45B-72A2F9486181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5FE-BAAB-497B-9AF3-8C1584052852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9973-60DF-4AE0-9CB5-D66E82171ED5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4CE-E627-4839-8579-DB7398F879DF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449F-4A18-4BFF-9CC2-F5F7EAAABF00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B105-5E74-4F26-9A27-391393BD8BC9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18C6-98A5-49A4-8E2C-63B55E70FE42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51CA-6A40-4F2A-9E0B-5579E9C67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8097-00D3-417C-8D6C-B5CE234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7F3F8D-02F1-4F82-94E2-9520C5CB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200F35-1C3E-4AC6-9A18-9EB9E05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62A19-75FA-44C4-A5BA-A367CC4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918C19-7AB7-46EE-8480-B449A012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5395B3-257F-4169-8C7B-2BA9162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B6B890-123B-430F-A889-C6CAF0F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C12FF-6C22-4594-B4D9-26E59B8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7FD33-7E83-4209-A41C-8B1D5CAE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C0A7C-8EDF-4C7D-A996-698F15A7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648E4-E52B-40BC-8A22-8D87387C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6C89-7C49-4391-A3CF-0C66E65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A371DC-FF1D-4C91-8EBB-1B9279B8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D639E0-3358-4903-A885-80F7A55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91E3A5-414E-4462-BE5D-CF1B7D4B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21D21-350D-4ECE-B82E-D1C871FA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392687-0ED4-483E-9134-6E9659D6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7BFC2D-E09F-4DBF-B772-6D6B328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FEB879-8ECB-40FF-90BE-D83CBDE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227ABC-3C86-457D-A54B-FD591F2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3BD537-0CE3-4F28-AA21-EFA2FF2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3A7C3-B0F9-4F00-967A-7196C377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10A8-3E6F-4580-873A-A95255D124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CEBAA3-E6FA-49A0-BEC0-0912F8B0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991A1-9365-4F53-9CC1-5CA089FF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94FE2-2047-4E9A-B093-2EFB437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5D40C-D5B5-4A41-9D3E-FFD3B93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A9E7A-531E-4011-ACCF-DC0C2548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22984-789C-4D23-B90D-5211BE95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F5BA4-6D17-4901-B2C6-7D663B93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412D7-6627-4D78-9D3F-CBF1F67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ECF42-8BC0-4EC9-9BD9-ADECD6B5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73D1B-A042-41FF-8E1E-D686FA3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1485F-B207-4174-BE8C-6B386B2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DBB65-3501-41C1-B894-C160A641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66A9A-3C26-4AB1-A5CE-F717E493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201C8-8C59-4D45-BC49-5707A495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7A482-16F3-4908-8C47-8628CAB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925EE-6033-4EAD-A43C-ACAD12FA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1F382-9AC9-4761-9C11-AB49954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F3EAA-8FE4-490E-9685-E0D2EED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E7158-3202-4649-A1EA-DA956F1E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8ED64-5F12-496A-807B-54231BC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D6ED3-C6A2-40F8-A4F7-00D76FA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4738F-CC1D-43E3-A842-0893D89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227EC-3096-48D6-A2A6-3BDE34E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0409C-526E-4D33-82A2-8F6EF0F0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559CC-8BAE-4A1B-9729-447AE6C3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832531-7A62-47EC-8CCD-EFD063DF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8EE1D7-397A-46FE-8A0A-9434EAF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7E1E2E-E7A1-42AA-95D6-62AD6045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CBE1AE-EBF8-45EE-8466-B728CDC1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C2ADD4-D579-4179-8665-18559184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D3169C-46D5-4966-91D9-DEDC6D95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A7915F-F01E-4C10-9977-E3102504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FF820F-79C6-43E2-BE22-A6DBD8E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6C1D6D-43F4-40ED-BE63-5E2FC4B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8D025F-74C7-4456-946B-BE600805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4C0319-64E3-411C-9956-EF5B0C15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11A22C-5EE5-47CF-BBC6-3E82DAC2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56A31-7377-4376-BEC7-75AA9C28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C3758-F90A-490E-B0BE-10761D0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3BB11-B0E1-4310-AC28-36577C24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33120-3AAC-4D8F-9790-FD19972B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A326A-005A-4DA1-AEE0-B0348EE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7E326-F8D4-451A-B8FE-83BC3A25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5E7D9-0BD1-4ED0-936C-EA721404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AFC16-808F-43A7-995C-0190311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C6EBA-035F-4EB6-B3E9-0A4F0C1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8FA7B-BC4B-4CAF-B4A2-7B7330A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22AD8-9E0F-4272-A3EA-568C5E36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08A5A-0978-47E7-AFBD-D17B154E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5976A4-B518-45E0-A159-7EA95A58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B787D0-8139-4DA8-A035-E1C713CE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89B585-E134-480F-9173-EC621C97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2F4B8B-37EB-461E-9E99-7B0BC57A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275B0D-D373-4335-BC27-AF9F32AB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930BB5-4D11-47C0-897F-0A9793F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D1127F-9AD0-4AFD-8996-54FB891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61FD4F-0543-4715-9F38-D182323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00A62B-DE19-4FAA-B4A4-9332690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D7F5C7-A51C-41DC-A219-2E3C3536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E550C9-DAF7-41BC-BA86-CBE0DFAD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69BBB6-C7DB-4489-AC2D-82816A0B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380E3E-EE7F-4E10-8A14-3A518591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936F7F-03C6-4FD5-97AB-EDB05434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481C09-9CA8-4B67-8A54-5F9E546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9DD3A9-F4DF-4861-A488-922C20F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4FD309-9450-4A14-AF2E-3A13EE8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327B82-38B0-41E1-9B82-9FFF4877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9C65C0-959C-4293-AD52-FC29118F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FB3747-1CEA-4E44-8B5C-496FBAB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79A931-456F-4D20-B897-4129BDF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2FD7B7-B8A9-4CC8-AB10-2D90053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CE4BAC-7BAD-4AAA-8420-3B84B31E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0E0F22-F149-421E-BC74-22A2CBF4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B65768-D8D0-46DE-851A-5BF47D0F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9D8128-F22A-4F9D-B0F2-988C37B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5167AE-7A9D-4299-B55E-F5A7F204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AD9CBF-E5D1-456E-B3FE-DF7ABFC0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228FF2-74CE-46B3-9F51-89726478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F22E92-B1AF-4CFE-9661-4C2C56E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329B6F-43FF-4882-95F5-989EFE9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1444-C76D-4686-8695-1A80D034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68CB9E-AAC1-4015-AAD9-25451B7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6AC299-2CD2-48D7-A1E7-F1FE12F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C4F28E-0D19-426D-BA94-6A0C84EC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AAA7F7-485F-48FC-8588-430174EA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55E9CD-2758-4D69-A09A-A7645C42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7A3A07-68BC-42EB-9D7F-8B27ACE9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D904F4-0DE1-44E0-9578-D829936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5EB912-64F7-48BB-B2DE-89AC0F2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DDAE54-9A97-4502-A575-A16C1513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4476FA-7E50-45A1-87C3-DD313E7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7D321A-3037-4235-8049-88EEBE9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9DA2D3-A841-4CC3-BF05-CFCBD77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85DC10-7BB2-4DBC-BF97-D8BA29B5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B42822-51F1-4E1D-9F27-DD42B37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C54319-B524-4D5A-AD7F-E0582A0F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25206C-DF08-4A9F-96D8-0673EA59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01B652-F42E-4089-9DFB-67D4EE6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1CD081-6EF3-4C31-85BA-32A3C799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1F4455-F279-493E-9F1B-2D338B5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B6EF51-F287-4C2E-B5B8-E69B030C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5B5F5A-3C98-47C4-B9F5-78F305E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97B2A4-645D-4463-85DA-0439465F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C02812-F9C4-4B0F-8D05-4A5F11C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A03E86-A0AC-4DE0-BA0D-3F360C3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E3520D-11EC-4663-9B75-C071BF0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0E8225-7C23-41B5-960B-7F11FC1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4F63-FB4B-43D0-8E50-03EF8582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D645C7-DD62-463A-82F0-6C7D55E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FC6A7E-048D-4984-AED0-182334C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9C2ED1-2670-4810-BDB3-D7239B52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0E064-F4C6-4EA5-9A46-E63FD03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299618-E398-4FC9-A9DB-804F6ACB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6389DA-DB5F-4B45-8B86-EB2AE412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236BFB-29A9-4DB3-B8A8-43D4B7EF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64C604-2B31-49C6-8FF0-750DE3B2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BEE72E-B130-48D7-87D7-76A9FE81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8F2E0-DE59-4F53-B53B-648582F3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774B96-C9AE-4E34-959E-7A82F36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A8F09B-DA0D-44DA-8F41-06719E3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7DF515-761B-408F-9C73-93E137F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05C48C-0C1D-403A-BC5C-7D0AEF7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4BA9647-C343-4213-82DE-967B9A86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76770C-F57E-4A1C-8F07-41E1ED4E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ADAF36-06F9-42E0-92AB-3C72470A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8DDEA9-FF8D-4DEE-8A3A-D4DC62E3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70AEE3-82C2-4F6F-B461-7D4ECEC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A9E30B-0103-4870-94EA-9C88982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AF06A-1307-4F1F-A31A-DBEB6F3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220167-A5E6-4F88-8F93-026C104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4DA623-00E8-4BA0-B06F-4CCE6D0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151A66-A8C6-4F24-B888-17A02A0D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42F040-E1A1-4513-BA2F-A573D99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0962A81-5D90-4F66-BCBD-DEB7C04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D25866-C573-4279-A87F-050CB97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B6476E-035E-44A0-8C39-3A003699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658F36-F5B8-468C-B8D6-25BB051C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B5B660-513E-4B85-8887-301713A0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3F837F-B126-4B70-9BC1-9D4D4E3A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2FE2-F617-4663-B0F9-CF09DD0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EFE7FD-5F71-4705-A466-11C42783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367F6B-C0BC-4120-BC39-A1D9B7A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25F20D-2123-4750-9531-70E06ABD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8F0FE5-D6C7-4D95-A8C0-47496BED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C02822-315E-462B-AE1F-D00BC5B1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9787B7-4016-4853-8F4A-C6749B6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43F36B-5EA8-4E8E-9E8D-30E20BD2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D03BD7-17F9-43CB-88A3-A01C313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25FB59-E8F1-4E24-B3F5-C9ADEE3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2E9E50-CD61-4D7B-B760-EDAED6FC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65BE-DB4A-423F-98FF-6AD3D2D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BA9D5-9A49-4827-84EF-6DC5A975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BB703D-C10F-46E7-85B0-B635DDC5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6B27A9-9CF9-44DC-95A2-197C3EE6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C598E1-90B4-42AC-9962-6FAEF93D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799314F-594E-468A-9892-B04F798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4A27DEB-B9FF-4F4C-A023-2070439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A2C5F5-A3B9-4E29-B829-F62135A4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98088A-7875-4CC9-9128-E087A261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B5A7F5F-C5C4-4D42-B56C-C9E9050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873D08-7EE6-4637-A64C-6D449A1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6405601-E2C0-4764-BDF9-4F5CF33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4AA31-E1EF-46DD-A40F-285DC61F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4A77BC-8C54-4A11-98B8-154701E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71EF44-962B-4EAA-BB9A-B202D418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7F29CC-356D-41E5-96AA-593B829D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1C12AE-9880-42A4-A80C-4B3EBB81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0CE4E7-F328-481E-9825-C5CA3A2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8CA778-A3F2-4CD0-B1F0-6558DECF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E62320-946B-47BC-A08C-7F367336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CDBFA5-F605-4268-A8B8-674A258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75251E-895F-407E-A073-CE9FAD3F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D45438-3E9A-4858-BE0C-F20AFB2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458EB-3941-4168-927A-C69C07C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C43B83-44D2-4C85-8EB7-4E8B99D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3780520-0F83-4E07-810F-89766EC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86D870-8EFC-4E9C-BCC7-DC703C8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C83AD33-C91D-49C2-8357-0EBF4D8D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5DC153E-E467-432C-B3AF-ADF22D2B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FC7DD7-7C18-41AB-B865-E56D037E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8A19B39-B913-4FE5-B560-9832B9E2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5E5C6E-18DE-4076-912D-8BDA9C8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32349C4-B14B-43CA-BFF1-4F2E2FD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78B0E1-066D-4390-A609-13672A4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73DE7-3481-4E42-96F1-AEC6610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AAC8821-BCF5-4949-91DD-3177BEF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D9588E7-8380-4CAF-9EDF-D3CA1D5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5FDC6A8-3E0E-40BC-BBD0-0D4A780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F009DD7-0E52-4F79-A797-B4B388AA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FCA3C8-0289-40D3-92E2-D47FD07A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50A181-5D37-4EEC-A825-33CC410B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97D18D-D3B5-4017-A997-8DDD75DD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F64D8E-1166-4731-96ED-4FDE8023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8E3D90-2CAA-454C-9C96-F6047B9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2D1051-6964-411C-9EC4-A0D2DD2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EB7A8-CE90-4CA3-9BCC-53629AFC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21B693D-D134-424F-B22E-2313A09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F9AF99-6EF4-46F4-8B7A-81EF8026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877B44-68AC-4187-B310-173AC36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D80D0AC-241D-4C69-BBBA-D3031D7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41BAE7-CFEA-46B5-BA1E-EF96F88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3A6230-FC9E-4C3A-95BE-91DAE8D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5A4181B-5E13-408E-81F8-8F3C971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B552E31-12AA-4F3D-AE9A-8E451AC6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35B875-CEB9-45B8-BAC1-D003A326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A6024E-90B6-4F6F-84CB-8A093420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E1EB0-49C5-4E6B-8322-FEB24586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16B56F-C8CE-401E-9F97-446FBBB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AEBB28-75CB-4150-BA94-8BD4C775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122B983-7A52-4B29-8BDB-FD162957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FB917EA-5A33-4D16-BAEE-99F8244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25B19D2-6E09-4013-BAE5-C6F7F756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C3E6E95-44C1-4DD2-A4BE-035F4C6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EF16DB-1AC0-4FD2-9620-D1170AC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47CDBA-5286-410C-B30E-BB8DB1C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62FDA5-1BA8-4CC1-800E-ED228928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01471DD-BD5F-4257-B18F-5F8E3C22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2F0E-5CAB-41B5-A257-8B184028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281933-C3E9-48B6-AD31-CB63528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A804F51-EC96-4CC2-B02B-0CA7D083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759AD8-C4A7-4DA4-B9B0-6B83BEDE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3CD411D-81E3-45DD-BA69-ED010B1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9A609BA-824C-4230-8885-717A653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023C08C-B921-452D-8854-982B0585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8C8B8E9-529F-4D3E-8F04-4F99193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39CE2A-1D0B-4080-B5FF-D6939AA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B3747EA-C915-46EE-9DF0-728D995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B86FF3-4377-41C6-B0EE-CEF8B880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3849B-9291-4B34-A0BF-4DC33B03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24F2EAB-B14F-4676-BDCB-420EE87A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26E83F-CDD3-4788-9E9A-7EE2721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DB8189-F771-483A-8EFC-0C5617E6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A48860-6876-457A-ACFE-2534BC90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467E454-112A-490F-AE19-3F0D7224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8F9C32-3EEF-4D4D-B3C5-DA55A90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BF3C147-FE50-45F1-9AAB-78655FE2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3C1980-3A55-4EF7-81D8-CCB1E56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8B0182B-902E-4A39-BCA8-36B514E5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DEC0526-7FAE-40E0-B87A-26BDD02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36695-684E-49FA-8437-6C3EE51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2B4278-D27D-41E6-B372-14A2CE9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DF25CC-FCFA-4EB9-9293-995638F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32AB868-5C81-4377-A028-F00EFFE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5954496-6B87-423D-9A57-FE909803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013BD6D-A343-4CEF-9A7B-8C59DFF1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563298-C192-4244-A36C-972FD0DD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2F834E-9788-4DB4-8D41-293C8061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C0D133-EA38-489C-A387-9F3B92EF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166CE2A-9980-44E0-B669-AB32B78C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6AC03F0-9763-4378-9497-B7951253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7297D-FEC9-4294-A7B6-B3A10DA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088211-DCCA-495F-8D3C-D73294DA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DFA2917-3467-4340-BD96-63CC58E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DB36D1-6D36-4993-8348-C76E66C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E16615E-AC3B-4B37-AAEE-182A21F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78F3A0-3873-4759-A6A6-9C2C7E8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76D210E-AF69-4933-822C-7DBEE3FF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90E4F55-0371-4F5F-8E32-A8A053BC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CFB0-C196-4146-AD40-CE88F88A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4D76C-59DE-4841-AB68-4CB1453F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1376F-9F9F-43F3-B1F0-DF393EA3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39029-06BC-4F36-905C-52ECFBF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AE7A6-F634-4B78-B7C3-9B658CF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26AA3-E26C-45BE-936D-3B02719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69AB2-5092-48F2-8852-AAB53EA3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19DF7-473E-40D6-8F24-00D771C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C4949-4D9A-44E6-BA9C-DC1851C3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97649-5D51-4078-AB72-7C1344FF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50529-8652-4FBD-99A0-A1CF8FDBD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8707-2DD9-4321-8644-87022DB7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6BA72-E7B5-4F31-831B-3C3C1A8F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161A2-56D0-49FA-BCF9-3E171118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4C87B-D575-485E-BD1E-51A78F5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35D66-A68D-4C83-A9BB-ADD1B42F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285B5-6062-40ED-BB94-4AFED042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CC4FE-232B-4089-B2E1-CE891179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291AB-E919-4203-BB48-F1A9CB1F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9FEE3C-C223-4F14-86D6-AF408E1D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627A0-F730-4696-B0BC-74082B6D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6DCE8-611E-428C-B582-3C622AF3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E992-F63D-4D01-B336-2D40121F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BEEE2-6C38-4942-99B1-17CEBE389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0451D-FC17-4B20-8C2B-5A876168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24D2F-0F0B-4673-AD16-9E0D72BC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E04C53-831B-4328-A1C9-BA48152D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07828A-B0B0-4879-A69A-EF137593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F9199-9433-4745-83BB-646DD441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74A7C4-0839-4B26-9104-135CC4D6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116DE-8B5B-4DAB-9795-F7BDD12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D3F311-681A-4A56-B7B2-019EA36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497234-4E9C-44D4-AA30-F7348F0A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70DB-79C3-4FDF-95AF-9B88579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1464E-BA73-4B19-9948-B700DAA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586C0-7753-48EF-9841-DE2A4F1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FE508-6056-414D-B081-D09080E8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C279-9278-4622-BAA5-1EEA324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01F35-E455-4CE1-BE8E-48FBDE47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CEEEE-8509-4E44-914D-82340E9A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EB941-2145-4A9C-8D8C-F730557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E1DA46-D0EC-4511-8EDA-0DC06DC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19B52C-ECE3-4BE2-B169-CCD6FAEF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A390-A40D-4C99-8AA6-649C5D14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0C22C-F1EC-4CBA-9E62-C8549A2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DC3B8-4D29-440E-9240-4E3E47A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4EC50-2E49-45B6-B00A-E5AB6BA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C78AB-832B-443A-A20E-ADE9E04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0A251-CA7A-4282-9CFC-38CE2261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3B04D-18F9-4885-8216-8464CA88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7F516-3490-404F-934F-C898349C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0DAEAA-4E8E-410F-94E8-536A086F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96635F-C610-4FD1-BC42-60C3307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B765E7-D40A-4395-8F07-A82F5D86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390-12E5-4BD0-90B8-4837B9F2F11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B1D-4A5A-4565-B21F-391B90F1327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7AE-FDE9-4838-8A02-5C21B12DA48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A8F0-0DAC-4905-BDC0-B51743D0702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26A1-D7FD-4B2A-A2BE-0726C7FBF34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67C0-B5DD-4D52-B0E4-B0FC4BE94AC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E8A-F760-4F7B-BA15-912B6ECAC4F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C8D-C536-484E-8BFF-8D4FE4B94C7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76E-C130-4A22-91FA-6385CB7BBA8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61B4-E5FA-4C5A-83EF-9ABEBFE4DD4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56F-546C-40F4-8920-DE64033FEA6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410D-14DE-4418-89F3-7C73C25A641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A60E-AE42-4B48-A69E-962CFD13716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17B-E2B3-496B-ABE4-3B1494C5D92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6FC-621F-48B8-ABB4-2C776ADDCFF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DB7-055D-4228-A208-92950ED8074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BF5B-5853-414B-824D-28CD5AA9BA6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DCD-981E-4B05-813B-CE8EB6D33D9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F91A-7A17-4598-8A29-088B7613A89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E156-04A8-452F-B966-2F3E62DFEE5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AA7-D525-41C1-B60A-31D337BF4B8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E69-3131-4FD8-914F-5D338403DE4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ACF9-77E3-4B7F-ACD3-0F6E323EF84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B35-4CCF-4B81-BC49-8ECC2F6F286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B964-1736-4882-AEE2-BB60901B85A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F5F4-FDEB-4753-9673-4230DF46923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4A3-EABD-4FC7-8ECD-092904350FF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45D1-3079-445F-99EA-0E492CA6EF5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DB1F-86B1-4898-BD0D-AFC1A838886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43B3-E13D-4C5E-AEDE-9E97EFD7F2F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5C8-5DB4-4EB5-90B4-35E89091838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2E1-907F-4749-9706-B0EFC98D27D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CCD-B423-431A-8E7D-C887359A90D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2D4-3AFD-457C-8D74-679CC03FA8D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D25B-CA22-49F0-9CFB-6FFFEC76605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7564-21D7-4286-BD9B-4C46F76ACD7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2992-0EAE-4140-BDAE-C9338804AD0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66E3-94D0-4872-B407-3E1227EFE68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8061-75FC-4CB3-9E66-166E5FDE906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D72E-0AE4-48C4-AD34-326157C5F4E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5511-2100-45E3-9FA5-F848C913B34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7747-491F-4B10-B5D4-CB465468F54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C1C-06D3-44AB-8BC2-FFE02413171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6214-C91A-438C-BAB5-0403F9101CF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B842-B792-4809-922B-0735A9C6F7E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D04-5720-4CAC-A2BD-C14AF2B04C2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157-9399-4FBF-B069-4E76C1220D3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0D28-3236-4899-AECA-06560CF3162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8208-FB01-4ED9-BAA2-A806B337709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ED25-7FC2-4461-B952-15061E09767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210-849F-43C9-8A92-1398A217AF9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187-0BE0-4324-BACE-F270DF9ED4C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DC4E-D7C2-4E4F-810E-7E14C7FEF5C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391C-AE62-46AD-9FD1-9439887DA79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B48C-81F5-46E0-B276-2B065C607A4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373-7219-4112-846D-20964260EDA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Rectangle 3"/>
          <p:cNvSpPr/>
          <p:nvPr/>
        </p:nvSpPr>
        <p:spPr>
          <a:xfrm>
            <a:off x="3784680" y="5027760"/>
            <a:ext cx="457200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Rectangle 59"/>
          <p:cNvSpPr/>
          <p:nvPr/>
        </p:nvSpPr>
        <p:spPr>
          <a:xfrm>
            <a:off x="2987640" y="981000"/>
            <a:ext cx="608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_ QM 58 Category 3 Quality Requirement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KZN  Province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KZN006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lipspruit Subst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29 March 2022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FB4-72E0-4792-B921-A8A33AD64873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7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6672-840C-4729-9110-1241AAE2165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- D:  Quality  Control Plan (QCP / ITP)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A5B7-AB53-4F80-9EAD-FBC86B5969C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9C1D-B0D9-4D27-B74C-AEEAAC554DB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9" name="TextBox 2"/>
          <p:cNvSpPr/>
          <p:nvPr/>
        </p:nvSpPr>
        <p:spPr>
          <a:xfrm>
            <a:off x="324000" y="1057320"/>
            <a:ext cx="84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 :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0" name="Content Placeholder 2" descr=""/>
          <p:cNvPicPr/>
          <p:nvPr/>
        </p:nvPicPr>
        <p:blipFill>
          <a:blip r:embed="rId1"/>
          <a:stretch/>
        </p:blipFill>
        <p:spPr>
          <a:xfrm>
            <a:off x="426960" y="1420920"/>
            <a:ext cx="8406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E -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2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B19-3F94-4DEA-85B2-5448EF86871C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3" name="Slide Number Placeholder 2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0F7-A350-4A45-A93C-2600D2E90C9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4" name="Picture 7" descr=""/>
          <p:cNvPicPr/>
          <p:nvPr/>
        </p:nvPicPr>
        <p:blipFill>
          <a:blip r:embed="rId1"/>
          <a:stretch/>
        </p:blipFill>
        <p:spPr>
          <a:xfrm>
            <a:off x="1403280" y="1171440"/>
            <a:ext cx="3730680" cy="528192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1"/>
          <p:cNvSpPr/>
          <p:nvPr/>
        </p:nvSpPr>
        <p:spPr>
          <a:xfrm>
            <a:off x="2268360" y="1955880"/>
            <a:ext cx="2519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here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72BC-A94C-4399-9AC8-889B01E70D0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D86D-B06A-4123-8009-B01B626F9D5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9" name="Picture 10" descr="Image result for thank you"/>
          <p:cNvPicPr/>
          <p:nvPr/>
        </p:nvPicPr>
        <p:blipFill>
          <a:blip r:embed="rId1"/>
          <a:stretch/>
        </p:blipFill>
        <p:spPr>
          <a:xfrm>
            <a:off x="1187280" y="1846440"/>
            <a:ext cx="6519960" cy="367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of this presentation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108000" y="1125000"/>
            <a:ext cx="90360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Quality Requirement Category 3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ection A – document submiss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ection B – document submiss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Section C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Contract Quality  Pla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 Section D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Quality Control Plan / Inspection and Test  Plan  (QCP /ITP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e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Section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D628-5E9C-4B32-BD44-A52F083D9FE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A17-8DE1-4F21-BC28-082B1A7FA93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E9B2-DFD6-4473-A0A0-D498175304B3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3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99E4-B822-4A45-81FE-E4368356456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152280" y="1052640"/>
            <a:ext cx="89694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1 QMS Manual or a document that defines and describes the QMS and its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cope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or Quality Method statement based on scope.                                   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manual to be aligned to ISO 9001:2015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lauses of ISO 9001:2015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4 - Context of organiza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5 – Leadership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6 – Planning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7 – Support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8 – Operation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9 – Performance Evalua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10 – Improvement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B85-0DC3-4704-B720-C1EF8705EC2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254-730D-4355-ABAF-50BBE3D1B37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152280" y="1052640"/>
            <a:ext cx="89694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2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Quality Poli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roved by top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manage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4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Control of </a:t>
            </a:r>
            <a:r>
              <a:rPr b="1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document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how documents are  approved, distributed, retrieved, reviewed. Control  of obsolete and external origin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storage(how records are kept), protection, retrieval, retention time  and disposal of record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CB4-B4F2-4AE0-9EF7-FBCBCCD99D6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85E5-F13C-4F6C-9396-C6416583C07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3" name="Rectangle 2"/>
          <p:cNvSpPr/>
          <p:nvPr/>
        </p:nvSpPr>
        <p:spPr>
          <a:xfrm>
            <a:off x="152280" y="1052640"/>
            <a:ext cx="896940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A.6 </a:t>
            </a:r>
            <a:r>
              <a:rPr b="0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Documented information for Non-Conformance and  Corrective Ac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imination of detected non-conformanc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process of Corrective Action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vention of recurrence (ID root cause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A.7 </a:t>
            </a:r>
            <a:r>
              <a:rPr b="1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Documented </a:t>
            </a:r>
            <a:r>
              <a:rPr b="0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for Internal audit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Planned interval, conducted by trained and independent personnel, who will conduct, how will they conduct and intervals. Reporting and correction of  audit  finding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179280" y="1090440"/>
            <a:ext cx="88567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.1 Documented information for defined roles, responsibilities and     authoritie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bmits either of these document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rganogram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Job Profile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Responsibility Matrix etc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ease ensure that the Quality Roles / Function is detailed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6" name="Date Placeholder 3"/>
          <p:cNvSpPr/>
          <p:nvPr/>
        </p:nvSpPr>
        <p:spPr>
          <a:xfrm>
            <a:off x="32400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934-CAFC-484B-9DAA-EF96323E9B5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Slide Number Placeholder 4"/>
          <p:cNvSpPr/>
          <p:nvPr/>
        </p:nvSpPr>
        <p:spPr>
          <a:xfrm>
            <a:off x="7667640" y="65595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8539-B3B1-4E63-B94F-88EB667D0B5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179280" y="915840"/>
            <a:ext cx="88567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B.2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Document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for Control of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ternally Provid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Processes, Products and Servic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how you  ensure that work completed/supplied by external party  (Sub-Contractor, Suppliers) compiles with the requirements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Selection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n going monitor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oduct  acceptance /approval / final Inspection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ontrols that you have in place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Date Placeholder 3"/>
          <p:cNvSpPr/>
          <p:nvPr/>
        </p:nvSpPr>
        <p:spPr>
          <a:xfrm>
            <a:off x="32400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4C6-A878-4381-8E45-749F96F5286F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1" name="Slide Number Placeholder 4"/>
          <p:cNvSpPr/>
          <p:nvPr/>
        </p:nvSpPr>
        <p:spPr>
          <a:xfrm>
            <a:off x="7667640" y="65595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CFED-560C-4D5F-ADB7-6876BF89BBF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436680" y="153828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ontract Quality Plan specific to the scope of work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mplate attached on invitation – CQP Template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523-AB86-4F0C-BAEB-46A35553BFB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C0D-60CE-4738-9DE7-CBFA405428F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Title 1"/>
          <p:cNvSpPr/>
          <p:nvPr/>
        </p:nvSpPr>
        <p:spPr>
          <a:xfrm>
            <a:off x="588960" y="318960"/>
            <a:ext cx="6519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 – Contract Quality Plan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7" name="Picture 2" descr=""/>
          <p:cNvPicPr/>
          <p:nvPr/>
        </p:nvPicPr>
        <p:blipFill>
          <a:blip r:embed="rId1"/>
          <a:stretch/>
        </p:blipFill>
        <p:spPr>
          <a:xfrm>
            <a:off x="976320" y="1844640"/>
            <a:ext cx="5743440" cy="416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8" name="Content Placeholder 5"/>
          <p:cNvGraphicFramePr/>
          <p:nvPr/>
        </p:nvGraphicFramePr>
        <p:xfrm>
          <a:off x="7047000" y="594828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9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7000" y="5948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7375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D- Quality Control Plan/ Inspection Test Plan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178920" y="1114560"/>
            <a:ext cx="87966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QCP is a document specifying the activities to be inspected throughout the execution of the project, inclusive of test methods, procedures and acceptance criteria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The contactor to outline all the inspection activities, acceptance criteria and who to approve. All check sheets that are to be used shall be attached to the QCP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List of activities,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activity  control measures-( visual/ checklist / testing);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Intervention points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hecklists/ ITPs need to be well designed for each activity;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Indicate approvals required by clien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2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AFE-EF72-446A-9A42-4C5084D3131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1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3" name="Slide Number Placeholder 4"/>
          <p:cNvSpPr/>
          <p:nvPr/>
        </p:nvSpPr>
        <p:spPr>
          <a:xfrm>
            <a:off x="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53D-0AFE-4035-B48B-F70BB1A0766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94" name="Object 1"/>
          <p:cNvGraphicFramePr/>
          <p:nvPr/>
        </p:nvGraphicFramePr>
        <p:xfrm>
          <a:off x="6918480" y="518796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51879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Lungile Mathetha</cp:lastModifiedBy>
  <cp:lastPrinted>2020-03-06T11:27:26Z</cp:lastPrinted>
  <dcterms:modified xsi:type="dcterms:W3CDTF">2022-03-29T12:57:24Z</dcterms:modified>
  <cp:revision>896</cp:revision>
  <dc:subject/>
  <dc:title>Slide 1</dc:title>
</cp:coreProperties>
</file>